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3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hintergrund3"/>
          <p:cNvPicPr/>
          <p:nvPr/>
        </p:nvPicPr>
        <p:blipFill>
          <a:blip r:embed="rId1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4"/>
          <p:cNvSpPr/>
          <p:nvPr/>
        </p:nvSpPr>
        <p:spPr>
          <a:xfrm>
            <a:off x="880920" y="1498680"/>
            <a:ext cx="7775640" cy="27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0" bIns="216000" anchor="t">
            <a:noAutofit/>
          </a:bodyPr>
          <a:p>
            <a:pPr marL="343080" indent="-343080"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ehrgang „Strategien der Unternehmensführu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13. – 14. Sept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9999"/>
                </a:solidFill>
                <a:uFillTx/>
                <a:latin typeface="Times New Roman"/>
              </a:rPr>
              <a:t>Unternehmensphilosophi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9999"/>
                </a:solidFill>
                <a:uFillTx/>
                <a:latin typeface="Times New Roman"/>
              </a:rPr>
              <a:t>Personalführung und -entwick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r. Jürgen Hogefor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1116000" y="260280"/>
            <a:ext cx="54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Kleine_Kogge"/>
          <p:cNvPicPr/>
          <p:nvPr/>
        </p:nvPicPr>
        <p:blipFill>
          <a:blip r:embed="rId1"/>
          <a:stretch/>
        </p:blipFill>
        <p:spPr>
          <a:xfrm>
            <a:off x="2376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79" name="Line 4"/>
          <p:cNvSpPr/>
          <p:nvPr/>
        </p:nvSpPr>
        <p:spPr>
          <a:xfrm>
            <a:off x="1332000" y="1125360"/>
            <a:ext cx="76341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Hanseatic_Parliament_engl2_img_4"/>
          <p:cNvPicPr/>
          <p:nvPr/>
        </p:nvPicPr>
        <p:blipFill>
          <a:blip r:embed="rId2">
            <a:lum bright="70000" contrast="-70000"/>
            <a:alphaModFix amt="0"/>
          </a:blip>
          <a:stretch/>
        </p:blipFill>
        <p:spPr>
          <a:xfrm>
            <a:off x="-46836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Kleine_Kogge"/>
          <p:cNvPicPr/>
          <p:nvPr/>
        </p:nvPicPr>
        <p:blipFill>
          <a:blip r:embed="rId3"/>
          <a:stretch/>
        </p:blipFill>
        <p:spPr>
          <a:xfrm>
            <a:off x="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509840" y="112536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84360" y="1197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462480" y="1295280"/>
            <a:ext cx="610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105264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de-DE" sz="2800" spc="-1" strike="noStrike">
                <a:solidFill>
                  <a:srgbClr val="ff6600"/>
                </a:solidFill>
                <a:latin typeface="Arial"/>
              </a:rPr>
              <a:t>Selbst so komplex sein, dass Komplexität + Dynamik ihre Schrecken verlier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6988320" y="1916280"/>
            <a:ext cx="6109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335560" y="2374920"/>
            <a:ext cx="61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191200" y="1916280"/>
            <a:ext cx="6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191200" y="1916280"/>
            <a:ext cx="61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200560" y="1916280"/>
            <a:ext cx="39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1403280" y="37296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Chaos als höhere Ordnungsstu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Startup"/>
          <p:cNvPicPr/>
          <p:nvPr/>
        </p:nvPicPr>
        <p:blipFill>
          <a:blip r:embed="rId4"/>
          <a:stretch/>
        </p:blipFill>
        <p:spPr>
          <a:xfrm>
            <a:off x="-396720" y="1989000"/>
            <a:ext cx="4681440" cy="486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9"/>
          <p:cNvSpPr/>
          <p:nvPr/>
        </p:nvSpPr>
        <p:spPr>
          <a:xfrm>
            <a:off x="4284720" y="1989000"/>
            <a:ext cx="485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e Rationalität: Ende der Planbarkeit und K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der Natur lernen: Prin-zip Versuch und Irr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duktive Fehler: Umwege vermehren Ortskennt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igkeit in den Zielen und 1000 Wege nach 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wenigen Signalen steuern: Liebe + Schmer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Kleine_Kogge"/>
          <p:cNvPicPr/>
          <p:nvPr/>
        </p:nvPicPr>
        <p:blipFill>
          <a:blip r:embed="rId1"/>
          <a:stretch/>
        </p:blipFill>
        <p:spPr>
          <a:xfrm>
            <a:off x="2376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97" name="Line 4"/>
          <p:cNvSpPr/>
          <p:nvPr/>
        </p:nvSpPr>
        <p:spPr>
          <a:xfrm>
            <a:off x="1332000" y="1125360"/>
            <a:ext cx="76341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anseatic_Parliament_engl2_img_4"/>
          <p:cNvPicPr/>
          <p:nvPr/>
        </p:nvPicPr>
        <p:blipFill>
          <a:blip r:embed="rId2">
            <a:lum bright="70000" contrast="-70000"/>
            <a:alphaModFix amt="0"/>
          </a:blip>
          <a:stretch/>
        </p:blipFill>
        <p:spPr>
          <a:xfrm>
            <a:off x="-46836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Kleine_Kogge"/>
          <p:cNvPicPr/>
          <p:nvPr/>
        </p:nvPicPr>
        <p:blipFill>
          <a:blip r:embed="rId3"/>
          <a:stretch/>
        </p:blipFill>
        <p:spPr>
          <a:xfrm>
            <a:off x="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509840" y="112536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84360" y="1197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462480" y="1295280"/>
            <a:ext cx="610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0" y="1052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988320" y="1916280"/>
            <a:ext cx="6109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335560" y="2374920"/>
            <a:ext cx="61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191200" y="1916280"/>
            <a:ext cx="6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191200" y="1916280"/>
            <a:ext cx="61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200560" y="1916280"/>
            <a:ext cx="39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1403280" y="37296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Change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-114480" y="1544760"/>
            <a:ext cx="8670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änderung wird zum üblichen Zustand. Das Verhalten ändert sich nicht von selbst. Change Management ist dadurch unverzichtb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definition der Unternehmens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bindung der Betroff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bereitung auf eine Veränderung ohne Äng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definition der Rollen und der Qualif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legung der neuen Strukt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zessbegleitung bei der (nie endenden) Umsetz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Kleine_Kogge"/>
          <p:cNvPicPr/>
          <p:nvPr/>
        </p:nvPicPr>
        <p:blipFill>
          <a:blip r:embed="rId1"/>
          <a:stretch/>
        </p:blipFill>
        <p:spPr>
          <a:xfrm>
            <a:off x="2376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14" name="Line 4"/>
          <p:cNvSpPr/>
          <p:nvPr/>
        </p:nvSpPr>
        <p:spPr>
          <a:xfrm>
            <a:off x="1332000" y="1125360"/>
            <a:ext cx="76341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anseatic_Parliament_engl2_img_4"/>
          <p:cNvPicPr/>
          <p:nvPr/>
        </p:nvPicPr>
        <p:blipFill>
          <a:blip r:embed="rId2">
            <a:lum bright="70000" contrast="-70000"/>
            <a:alphaModFix amt="0"/>
          </a:blip>
          <a:stretch/>
        </p:blipFill>
        <p:spPr>
          <a:xfrm>
            <a:off x="-46836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Kleine_Kogge"/>
          <p:cNvPicPr/>
          <p:nvPr/>
        </p:nvPicPr>
        <p:blipFill>
          <a:blip r:embed="rId3"/>
          <a:stretch/>
        </p:blipFill>
        <p:spPr>
          <a:xfrm>
            <a:off x="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509840" y="112536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84360" y="1197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462480" y="1295280"/>
            <a:ext cx="610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1052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988320" y="1916280"/>
            <a:ext cx="6109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335560" y="2374920"/>
            <a:ext cx="61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191200" y="1916280"/>
            <a:ext cx="6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191200" y="1916280"/>
            <a:ext cx="61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5200560" y="1916280"/>
            <a:ext cx="39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403280" y="37296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Das Führungsd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-190440" y="1544760"/>
            <a:ext cx="933444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de-DE" sz="2800" spc="-1" strike="noStrike" u="sng">
                <a:solidFill>
                  <a:srgbClr val="333399"/>
                </a:solidFill>
                <a:uFillTx/>
                <a:latin typeface="Arial"/>
              </a:rPr>
              <a:t>Künstler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isionäre, kreativ, innovativ, Risikofreude,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mmer etwas Neues, den Menschen zugewa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de-DE" sz="2800" spc="-1" strike="noStrike" u="sng">
                <a:solidFill>
                  <a:srgbClr val="333399"/>
                </a:solidFill>
                <a:uFillTx/>
                <a:latin typeface="Arial"/>
              </a:rPr>
              <a:t>Technokraten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ahlenmensch, in jeder Branche zuhause, kalt, Menschen verursachen Kosten oder haben Geld zum Kaufen. Sehr schlechte Visionäre; hassen die Küns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de-DE" sz="2800" spc="-1" strike="noStrike" u="sng">
                <a:solidFill>
                  <a:srgbClr val="333399"/>
                </a:solidFill>
                <a:uFillTx/>
                <a:latin typeface="Arial"/>
              </a:rPr>
              <a:t>Handwerker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novativ, leben hier und heute, praktisch, zuverlässig, Tradition und Fortschritt, lieben die Menschen; stehen zwischen Künstler und Technok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Kleine_Kogge"/>
          <p:cNvPicPr/>
          <p:nvPr/>
        </p:nvPicPr>
        <p:blipFill>
          <a:blip r:embed="rId1"/>
          <a:stretch/>
        </p:blipFill>
        <p:spPr>
          <a:xfrm>
            <a:off x="2376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332000" y="1125360"/>
            <a:ext cx="76341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Hanseatic_Parliament_engl2_img_4"/>
          <p:cNvPicPr/>
          <p:nvPr/>
        </p:nvPicPr>
        <p:blipFill>
          <a:blip r:embed="rId2">
            <a:lum bright="70000" contrast="-70000"/>
            <a:alphaModFix amt="0"/>
          </a:blip>
          <a:stretch/>
        </p:blipFill>
        <p:spPr>
          <a:xfrm>
            <a:off x="-46836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Kleine_Kogge"/>
          <p:cNvPicPr/>
          <p:nvPr/>
        </p:nvPicPr>
        <p:blipFill>
          <a:blip r:embed="rId3"/>
          <a:stretch/>
        </p:blipFill>
        <p:spPr>
          <a:xfrm>
            <a:off x="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1509840" y="112536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84360" y="1197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62480" y="1295280"/>
            <a:ext cx="610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0" y="105264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Küns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okra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Handwerker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Handwe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ohne Persona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twor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sionen für die Zukunftsgestaltung entwick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onier sein: Vorangehen, neue Wege legen, Visionen hab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auch Bewahrer sein und kontinuierlich entwick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988320" y="1916280"/>
            <a:ext cx="6109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335560" y="2374920"/>
            <a:ext cx="61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5191200" y="1916280"/>
            <a:ext cx="6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191200" y="1916280"/>
            <a:ext cx="61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200560" y="1878120"/>
            <a:ext cx="39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1403280" y="37296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Ideale Füh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-190440" y="1544760"/>
            <a:ext cx="933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462276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Kleine_Kogge"/>
          <p:cNvPicPr/>
          <p:nvPr/>
        </p:nvPicPr>
        <p:blipFill>
          <a:blip r:embed="rId1"/>
          <a:stretch/>
        </p:blipFill>
        <p:spPr>
          <a:xfrm>
            <a:off x="2376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49" name="Line 4"/>
          <p:cNvSpPr/>
          <p:nvPr/>
        </p:nvSpPr>
        <p:spPr>
          <a:xfrm>
            <a:off x="1332000" y="1125360"/>
            <a:ext cx="76341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Hanseatic_Parliament_engl2_img_4"/>
          <p:cNvPicPr/>
          <p:nvPr/>
        </p:nvPicPr>
        <p:blipFill>
          <a:blip r:embed="rId2">
            <a:lum bright="70000" contrast="-70000"/>
            <a:alphaModFix amt="0"/>
          </a:blip>
          <a:stretch/>
        </p:blipFill>
        <p:spPr>
          <a:xfrm>
            <a:off x="-46836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Kleine_Kogge"/>
          <p:cNvPicPr/>
          <p:nvPr/>
        </p:nvPicPr>
        <p:blipFill>
          <a:blip r:embed="rId3"/>
          <a:stretch/>
        </p:blipFill>
        <p:spPr>
          <a:xfrm>
            <a:off x="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1509840" y="112536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4360" y="1197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462480" y="1295280"/>
            <a:ext cx="610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0" y="1052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chnok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okra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Handwerker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ok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st schafft keine produktive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ngst: Sicherheit auf der Gefühlseb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ttbewerbsfähigkeit „nur“ 20% durch Rationalisierung, 40% durch langlebige Strukturen und  am stärksten durch Motivation, Ziele, gelebte Moral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988320" y="1916280"/>
            <a:ext cx="6109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5335560" y="2374920"/>
            <a:ext cx="61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5191200" y="1916280"/>
            <a:ext cx="6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5191200" y="1916280"/>
            <a:ext cx="61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200560" y="1916280"/>
            <a:ext cx="39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1403280" y="37296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Tödliche Füh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-190440" y="1544760"/>
            <a:ext cx="933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Kleine_Kogge"/>
          <p:cNvPicPr/>
          <p:nvPr/>
        </p:nvPicPr>
        <p:blipFill>
          <a:blip r:embed="rId1"/>
          <a:stretch/>
        </p:blipFill>
        <p:spPr>
          <a:xfrm>
            <a:off x="2376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66" name="Line 4"/>
          <p:cNvSpPr/>
          <p:nvPr/>
        </p:nvSpPr>
        <p:spPr>
          <a:xfrm>
            <a:off x="1332000" y="1125360"/>
            <a:ext cx="76341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Hanseatic_Parliament_engl2_img_4"/>
          <p:cNvPicPr/>
          <p:nvPr/>
        </p:nvPicPr>
        <p:blipFill>
          <a:blip r:embed="rId2">
            <a:lum bright="70000" contrast="-70000"/>
            <a:alphaModFix amt="0"/>
          </a:blip>
          <a:stretch/>
        </p:blipFill>
        <p:spPr>
          <a:xfrm>
            <a:off x="-46836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Kleine_Kogge"/>
          <p:cNvPicPr/>
          <p:nvPr/>
        </p:nvPicPr>
        <p:blipFill>
          <a:blip r:embed="rId3"/>
          <a:stretch/>
        </p:blipFill>
        <p:spPr>
          <a:xfrm>
            <a:off x="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1509840" y="112536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4360" y="1197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462480" y="1295280"/>
            <a:ext cx="610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0" y="105264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okrat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ndwerker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üns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s Berat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als Fre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flache Hierarchien (mit einem guten Technokrat)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988320" y="1916280"/>
            <a:ext cx="6109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5335560" y="2374920"/>
            <a:ext cx="61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191200" y="1916280"/>
            <a:ext cx="6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5191200" y="1916280"/>
            <a:ext cx="61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200560" y="1916280"/>
            <a:ext cx="39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03280" y="37296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Ideale Führung K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-190440" y="1544760"/>
            <a:ext cx="933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Kleine_Kogge"/>
          <p:cNvPicPr/>
          <p:nvPr/>
        </p:nvPicPr>
        <p:blipFill>
          <a:blip r:embed="rId1"/>
          <a:stretch/>
        </p:blipFill>
        <p:spPr>
          <a:xfrm>
            <a:off x="2376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>
            <a:off x="1332000" y="1125360"/>
            <a:ext cx="76341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Hanseatic_Parliament_engl2_img_4"/>
          <p:cNvPicPr/>
          <p:nvPr/>
        </p:nvPicPr>
        <p:blipFill>
          <a:blip r:embed="rId2">
            <a:lum bright="70000" contrast="-70000"/>
            <a:alphaModFix amt="0"/>
          </a:blip>
          <a:stretch/>
        </p:blipFill>
        <p:spPr>
          <a:xfrm>
            <a:off x="-46836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Kleine_Kogge"/>
          <p:cNvPicPr/>
          <p:nvPr/>
        </p:nvPicPr>
        <p:blipFill>
          <a:blip r:embed="rId3"/>
          <a:stretch/>
        </p:blipFill>
        <p:spPr>
          <a:xfrm>
            <a:off x="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1509840" y="112536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684360" y="1197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462480" y="1295280"/>
            <a:ext cx="610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92040" y="1544760"/>
            <a:ext cx="91440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nzheitliches, systematisches Denken in Prozessen und Bezieh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ähigkeit, in Widersprüchen zu denken und zu experim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s Lösen von Problemen innerhalb flexibler Strukt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ung der Organisationen durch Vermitteln von Perspekt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exible Interaktion zwischen den Bereichen/Perso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manente Überprüfung und Veränd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6988320" y="1916280"/>
            <a:ext cx="6109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335560" y="2374920"/>
            <a:ext cx="61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191200" y="1916280"/>
            <a:ext cx="6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5191200" y="1916280"/>
            <a:ext cx="61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5200560" y="1916280"/>
            <a:ext cx="39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403280" y="37296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Was brauchen wir in Zukunf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-166680" y="1544760"/>
            <a:ext cx="933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Kleine_Kogge"/>
          <p:cNvPicPr/>
          <p:nvPr/>
        </p:nvPicPr>
        <p:blipFill>
          <a:blip r:embed="rId1"/>
          <a:stretch/>
        </p:blipFill>
        <p:spPr>
          <a:xfrm>
            <a:off x="2376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200" name="Line 4"/>
          <p:cNvSpPr/>
          <p:nvPr/>
        </p:nvSpPr>
        <p:spPr>
          <a:xfrm>
            <a:off x="1332000" y="1125360"/>
            <a:ext cx="76341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Hanseatic_Parliament_engl2_img_4"/>
          <p:cNvPicPr/>
          <p:nvPr/>
        </p:nvPicPr>
        <p:blipFill>
          <a:blip r:embed="rId2">
            <a:lum bright="70000" contrast="-70000"/>
            <a:alphaModFix amt="0"/>
          </a:blip>
          <a:stretch/>
        </p:blipFill>
        <p:spPr>
          <a:xfrm>
            <a:off x="-46836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Kleine_Kogge"/>
          <p:cNvPicPr/>
          <p:nvPr/>
        </p:nvPicPr>
        <p:blipFill>
          <a:blip r:embed="rId3"/>
          <a:stretch/>
        </p:blipFill>
        <p:spPr>
          <a:xfrm>
            <a:off x="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7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509840" y="112536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84360" y="1197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462480" y="1295280"/>
            <a:ext cx="610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0" y="1544760"/>
            <a:ext cx="91440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en der Selbstorganisation und der Selbstkontr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fliktlösungen quer über die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te Vernetzung der Inform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rategien zum Umgang mit der zunehmend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ob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rategien zum Umgang mit zunehmender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sicherheit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trauens-Management (nur wer sich selbst viel zutraut, kann anderen vertrauen)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988320" y="1916280"/>
            <a:ext cx="6109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5335560" y="2374920"/>
            <a:ext cx="61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5191200" y="1916280"/>
            <a:ext cx="6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5191200" y="1916280"/>
            <a:ext cx="61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200560" y="1916280"/>
            <a:ext cx="39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1403280" y="37296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Was brauchen wir in Zukunf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-190440" y="1544760"/>
            <a:ext cx="933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Kleine_Kogge"/>
          <p:cNvPicPr/>
          <p:nvPr/>
        </p:nvPicPr>
        <p:blipFill>
          <a:blip r:embed="rId1"/>
          <a:stretch/>
        </p:blipFill>
        <p:spPr>
          <a:xfrm>
            <a:off x="2376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217" name="Line 4"/>
          <p:cNvSpPr/>
          <p:nvPr/>
        </p:nvSpPr>
        <p:spPr>
          <a:xfrm>
            <a:off x="1332000" y="1125360"/>
            <a:ext cx="76341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Hanseatic_Parliament_engl2_img_4"/>
          <p:cNvPicPr/>
          <p:nvPr/>
        </p:nvPicPr>
        <p:blipFill>
          <a:blip r:embed="rId2">
            <a:lum bright="70000" contrast="-70000"/>
            <a:alphaModFix amt="0"/>
          </a:blip>
          <a:stretch/>
        </p:blipFill>
        <p:spPr>
          <a:xfrm>
            <a:off x="-46836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Kleine_Kogge"/>
          <p:cNvPicPr/>
          <p:nvPr/>
        </p:nvPicPr>
        <p:blipFill>
          <a:blip r:embed="rId3"/>
          <a:stretch/>
        </p:blipFill>
        <p:spPr>
          <a:xfrm>
            <a:off x="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509840" y="112536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84360" y="1197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462480" y="1295280"/>
            <a:ext cx="610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0" y="1544760"/>
            <a:ext cx="91440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. Gelebte Kooperation und Partizipation statt   Konfrontation, Befehl und Ausschl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. Konflikt- und Konfrontationsvermögen statt Aug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 und stur gerade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. Kreativität und Innovation statt bürokratisches Ver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4. Ganzheitliches Denken und Handeln stat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unktuell entscheiden und technisch-rational   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führe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6988320" y="1916280"/>
            <a:ext cx="6109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5335560" y="2374920"/>
            <a:ext cx="61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5191200" y="1916280"/>
            <a:ext cx="6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5191200" y="1916280"/>
            <a:ext cx="61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5200560" y="1916280"/>
            <a:ext cx="39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1187280" y="18900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7 Kriterien Führungspersönlichk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-190440" y="1544760"/>
            <a:ext cx="933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Kleine_Kogge"/>
          <p:cNvPicPr/>
          <p:nvPr/>
        </p:nvPicPr>
        <p:blipFill>
          <a:blip r:embed="rId1"/>
          <a:stretch/>
        </p:blipFill>
        <p:spPr>
          <a:xfrm>
            <a:off x="2376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234" name="Line 4"/>
          <p:cNvSpPr/>
          <p:nvPr/>
        </p:nvSpPr>
        <p:spPr>
          <a:xfrm>
            <a:off x="1332000" y="1125360"/>
            <a:ext cx="763416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Hanseatic_Parliament_engl2_img_4"/>
          <p:cNvPicPr/>
          <p:nvPr/>
        </p:nvPicPr>
        <p:blipFill>
          <a:blip r:embed="rId2">
            <a:lum bright="70000" contrast="-70000"/>
            <a:alphaModFix amt="0"/>
          </a:blip>
          <a:stretch/>
        </p:blipFill>
        <p:spPr>
          <a:xfrm>
            <a:off x="-46836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Kleine_Kogge"/>
          <p:cNvPicPr/>
          <p:nvPr/>
        </p:nvPicPr>
        <p:blipFill>
          <a:blip r:embed="rId3"/>
          <a:stretch/>
        </p:blipFill>
        <p:spPr>
          <a:xfrm>
            <a:off x="0" y="0"/>
            <a:ext cx="1422360" cy="17128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7"/>
          <p:cNvSpPr/>
          <p:nvPr/>
        </p:nvSpPr>
        <p:spPr>
          <a:xfrm>
            <a:off x="11872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1509840" y="112536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684360" y="1197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3462480" y="1295280"/>
            <a:ext cx="6109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0" y="1544760"/>
            <a:ext cx="9144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5. Toleranz und Gelassenheit gegenüber anderen statt Charaktermasken und Persönlichkeitskrü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6. Weisheit, gepaart mit Bescheidenheit stat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wisserei aus Arroganz und Ignora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7. Ganz Mensch sein: Bewußt leben - positiv denken - ethisch handeln - statt funktionieren und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getieren als bloßes Überleben auf Kosten vo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ch selbst und 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6988320" y="1916280"/>
            <a:ext cx="6109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5335560" y="2374920"/>
            <a:ext cx="61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5191200" y="1916280"/>
            <a:ext cx="6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5191200" y="1916280"/>
            <a:ext cx="611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5200560" y="1916280"/>
            <a:ext cx="394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1187280" y="37296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7 Kriterien Führungspersönlichk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-190440" y="1544760"/>
            <a:ext cx="933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-314280" y="1460520"/>
            <a:ext cx="945828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ht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lemen,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dern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ösungen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ken</a:t>
            </a:r>
            <a:br>
              <a:rPr sz="2400"/>
            </a:b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slmy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O 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lemach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zwiqza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Neues Denken schafft neue Wirklich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Identität bewahren and leb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Nur eigene Erfahrungen sind Realitä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e V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erungen schaffen Bewegu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iheit durch Verantwortu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Es gibt nichts Gutes - außer man tut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= Vermittlung Erfahrunge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= Anregungen, keine Rezepte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= Viele Beispiele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116000" y="260280"/>
            <a:ext cx="78375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Tahoma"/>
              </a:rPr>
              <a:t>NIPSILD  bzw.  NMOPA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hilosophie"/>
          <p:cNvPicPr/>
          <p:nvPr/>
        </p:nvPicPr>
        <p:blipFill>
          <a:blip r:embed="rId1"/>
          <a:stretch/>
        </p:blipFill>
        <p:spPr>
          <a:xfrm>
            <a:off x="6516720" y="2193840"/>
            <a:ext cx="2436840" cy="288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116000" y="1125360"/>
            <a:ext cx="8636040" cy="60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Sicherung einfache, transparente, unbürokratische</a:t>
            </a:r>
            <a:br>
              <a:rPr sz="2200"/>
            </a:b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Organis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Klein, überschaubar, eigenverantwort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Mitgestaltu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Einbezug + Beteiligung Mitarbeiter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formell + viel informe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Autoritä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Persönlic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fachlich, Entscheidungs-Autoritä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      I_ Ungewissheit ist normal (ständiger Wandel)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      I_ Perspektiven haben + vermitteln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      I_ Sowohl – als auch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      I_ Enge Kontakte zu Mitarbeit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GB" sz="2200" spc="-1" strike="noStrike">
                <a:solidFill>
                  <a:srgbClr val="ff0066"/>
                </a:solidFill>
                <a:latin typeface="Arial"/>
              </a:rPr>
              <a:t>Vertrauen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Unabdingbares ökonomisches Prinzip; sichert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ttbewerbsfähigkeit und Wohlstand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Vertrauen ist gut durch wahrgenommene Kontroll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Controlling: Nicht Input, sondern nur Output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(offene Information + ehrliches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116000" y="260280"/>
            <a:ext cx="802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ahoma"/>
              </a:rPr>
              <a:t>Personalführung: Zeitalter des Vertrau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938160" y="1278000"/>
            <a:ext cx="863604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berufliche Ausbildung (Praxis + Theorie); Elite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e Besten für das Handwerk gewinnen u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o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ändige Weiterbildung (im Betrieb + Training-Center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fachlich/technisch (nicht nur durch Hersteller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ersönlich (personal-soziale Kompetenz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Sprachen, internationale Erfah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slandsaufenthalte (z.B. Beurlaubung) für internationales Geschä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ssenstransfer mit Weiterbildung verknüp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ierung auf kooperativer Basis, z. B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Mitarbeiter investiert Zeit + Betrieb zahlt Gebühre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Betrieb übernimmt Zeit + Gebühre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Weiterbildung in Rand-/Leerzeiten: Winter, Abende, Wochen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Beispie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llbetrieb (30 Mitarbeiter) mindestens 10% Arbeitszeit fü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Qualifizierung + gezielter Austausch Au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116000" y="260280"/>
            <a:ext cx="802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Tahoma"/>
              </a:rPr>
              <a:t>Personal-Entwicklung: Chancen-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598760" y="260280"/>
            <a:ext cx="75452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ahoma"/>
              </a:rPr>
              <a:t>In Köpfe investieren = beste Zi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371600"/>
          <a:ext cx="8483760" cy="5608800"/>
        </p:xfrm>
        <a:graphic>
          <a:graphicData uri="http://schemas.openxmlformats.org/drawingml/2006/table">
            <a:tbl>
              <a:tblPr/>
              <a:tblGrid>
                <a:gridCol w="8483760"/>
              </a:tblGrid>
              <a:tr h="56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erung herausragender Führungs- und Fachkräfte = entscheidender Erfolgsfaktor: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chtigste Aufgabe der Zukunftssich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öchste Qualität + Leistungen + Innovationen verlangen beste Qualifikati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werksbetriebe müssen die besten Mitarbeiter gewinnen + heran bilden und innovativ se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ser und schneller sein als der Wettbewerb (hohe Arbeitskosten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liche Image-Korrekturen: Jammern füllt keine Kamm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ffung von Durchlässigkeit + Eröffnung Karrierewe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Beispiele:</a:t>
                      </a:r>
                      <a:r>
                        <a:rPr b="0" lang="de-D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teausbildung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lbetrieb 25 Mitarbeiter: Least Maschinen, investiert nur in EDV + Köpf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1116000" y="260280"/>
            <a:ext cx="802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Tahoma"/>
              </a:rPr>
              <a:t>Mitarbeiter  wollen Mehrw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116000" y="1400760"/>
            <a:ext cx="795024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ing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Sozialkos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Lohnende Ziele             Anerk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rmen-Imag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ehen; Wert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exibilitä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ätz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Qual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k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ff0066"/>
                </a:solidFill>
                <a:uFillTx/>
                <a:latin typeface="Arial"/>
              </a:rPr>
              <a:t>Lohn X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rr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vidualitä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eilig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tzu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men PK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pathi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tsouveränitä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99"/>
                </a:solidFill>
                <a:latin typeface="Arial"/>
              </a:rPr>
              <a:t>                     </a:t>
            </a:r>
            <a:r>
              <a:rPr b="0" lang="de-DE" sz="2400" spc="-1" strike="noStrike">
                <a:solidFill>
                  <a:srgbClr val="009999"/>
                </a:solidFill>
                <a:latin typeface="Arial"/>
              </a:rPr>
              <a:t>= Wer bietet mehr als „nur“ L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598760" y="260280"/>
            <a:ext cx="75452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ahoma"/>
              </a:rPr>
              <a:t>Kulturen wichtiger als Struk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0" y="1511280"/>
          <a:ext cx="8737560" cy="4846680"/>
        </p:xfrm>
        <a:graphic>
          <a:graphicData uri="http://schemas.openxmlformats.org/drawingml/2006/table">
            <a:tbl>
              <a:tblPr/>
              <a:tblGrid>
                <a:gridCol w="8737560"/>
              </a:tblGrid>
              <a:tr h="48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chen (Kunden + Mitarbeiter) suchen feste Orientierung (Werte!), aber flexible Strukturen: Arbeitszeiten, Entlohnung, Selbstbestimmung, Flexibilität, Zeitsouveränität, Erfüll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elle, flexible Jahres- und Lebensarbeitsz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bination mehrer Tätigk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engerechte Arbeitsgestalt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stungsgerechte, transparente Entlohnung, keine Flächentar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e Information und intensive Nutzung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Beispiel:</a:t>
                      </a:r>
                      <a:r>
                        <a:rPr b="0" lang="de-DE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CHA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598760" y="260280"/>
            <a:ext cx="75452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Tahoma"/>
              </a:rPr>
              <a:t>Freiheit durch Verantwor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58720" y="1447920"/>
          <a:ext cx="8737560" cy="5059080"/>
        </p:xfrm>
        <a:graphic>
          <a:graphicData uri="http://schemas.openxmlformats.org/drawingml/2006/table">
            <a:tbl>
              <a:tblPr/>
              <a:tblGrid>
                <a:gridCol w="8737560"/>
              </a:tblGrid>
              <a:tr h="50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bewirkt Miniaturisierung: Auflösung kolossaler, zentralistischer Strukturen + Entwicklung kleiner, raffinierter, flexibler, digitaler „shops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75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berschaubare Arbeits-/Betriebseinheiten + hohe Eigenverantwort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75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hren im Chaos über verbindliche Ziele, freie Wege und Einbindu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75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 Streitkultur, aber auch keine (faulen) Kompromis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75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, „starke“ Führung: Ja oder nein besser als Selbstaufgab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75"/>
                        </a:spcBef>
                        <a:buClr>
                          <a:srgbClr val="333399"/>
                        </a:buClr>
                        <a:buFont typeface="Wingdings" charset="2"/>
                        <a:buChar char="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nheit, hohe Konsequenz und Berechenbarke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Beispiele:</a:t>
                      </a: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FZ-Betrieb „Rund um die Uhr“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536840" y="260280"/>
            <a:ext cx="76071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ahoma"/>
              </a:rPr>
              <a:t>Wertewandel: Bedürfnispyr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800280" y="3479760"/>
            <a:ext cx="79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aslow"/>
          <p:cNvPicPr/>
          <p:nvPr/>
        </p:nvPicPr>
        <p:blipFill>
          <a:blip r:embed="rId1"/>
          <a:stretch/>
        </p:blipFill>
        <p:spPr>
          <a:xfrm>
            <a:off x="2095560" y="1125360"/>
            <a:ext cx="6019920" cy="545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116000" y="260280"/>
            <a:ext cx="802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Tahoma"/>
              </a:rPr>
              <a:t>Sinnziele = Unternehmenszi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116000" y="1027440"/>
            <a:ext cx="7950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Wirtschaftliche Gestaltung ist Bewußtseins-Gestal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Führung ohne Führung (i. S. Befeh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ung durch Erzeugung Gleichk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ung durch informelle Information (Gleichklang nicht durch Sitzungen, sondern Gefühle aktivi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Liebe + Freude erzeugen starke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Leidenschaftliches Arbeiten verlangt Emotio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Überlegenheit der „Dummheit“: Krankheit durch V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izierung; Realität durch Vereinfa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Heureka: Erfolg durch Intu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elle Signale schneller, direkter, haltba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pelines legen + gleiches Wollen erzeu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ktronisierung Information: Führung 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ig, klare Signale (richtige Zeit, richtige Stel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ud und Leid (Liebe und Schmer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116000" y="260280"/>
            <a:ext cx="802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Tahoma"/>
              </a:rPr>
              <a:t>Warum so bedeutungsvo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116000" y="1122840"/>
            <a:ext cx="7950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 den unteren Ebenen keine Chanc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rbeitskräfte werden extrem knap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Mengenproblem (Demographie + Wanderu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Qualitätsproblem (Handwerk niedrige Qualifikation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Zunehmender Wettbewerb (Wirtschaft, Universität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wach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obilität + internationale Wanderungen nehmen z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Konkurrenzkampf um Arbeitskräf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Ältere Menschen werden länger gebraucht, aber andere Bedingungen (Inhalte, Teilzeit, Job-Sharing usw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rauen werden fairer behandelt + ihre Qualifikationen besonders gesucht; sie fördern „neue“ Füh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nachteiligte werden profitieren, es gewinnen Betriebe als „Hochschulen für lebenslanges Studium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arke Fernwanderungen, mehr ausländische Kräf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66"/>
                </a:solidFill>
                <a:latin typeface="Arial"/>
              </a:rPr>
              <a:t>Es gewinnt, wer Menschen für sich gewin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598760" y="260280"/>
            <a:ext cx="67831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Tahoma"/>
              </a:rPr>
              <a:t>Das Wichtigste zum Schluß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960" y="1125360"/>
            <a:ext cx="890604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den weisen Chinesen kennen wir dies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Lebens-Philosoph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u eine Stunde lang glücklich sein willst: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hl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u einen Tag lang glücklich sein willst: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h fi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u eine Woche lang glücklich sein willst: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hlachte ein Schw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u einen Monat lang glücklich sein willst: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ei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n Du ein Jahr lang glücklich sein willst: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be ein Vermö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598760" y="260280"/>
            <a:ext cx="72230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de-DE" sz="3600" spc="-1" strike="noStrike">
                <a:solidFill>
                  <a:srgbClr val="333399"/>
                </a:solidFill>
                <a:latin typeface="Tahoma"/>
              </a:rPr>
              <a:t>Entscheidend ist die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39840" y="1590840"/>
            <a:ext cx="7985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a50021"/>
                </a:solidFill>
                <a:latin typeface="Arial"/>
              </a:rPr>
              <a:t>Mit Werten und Tugenden sichern wir unsere Erfol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lung von Tolera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ut zur Zukunft, aber auch Dem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gleich der Bilanz zwischen Geben und Ne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duld zum Wachstum; Beharrlichkeit zum Erfol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und das Wichtigste: Entdeckung des Schatz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uns selbst: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E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598760" y="260280"/>
            <a:ext cx="67831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de-DE" sz="3600" spc="-1" strike="noStrike">
                <a:solidFill>
                  <a:srgbClr val="333399"/>
                </a:solidFill>
                <a:latin typeface="Tahoma"/>
              </a:rPr>
              <a:t>Die größte K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666720" y="1276200"/>
            <a:ext cx="8477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enn Du Dein Leben lang glücklich sein will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600" spc="-1" strike="noStrike" u="sng">
                <a:solidFill>
                  <a:srgbClr val="ff0066"/>
                </a:solidFill>
                <a:uFillTx/>
                <a:latin typeface="Arial"/>
              </a:rPr>
              <a:t>Liebe    Deine    Arb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1" lang="de-DE" sz="3600" spc="-1" strike="noStrike">
                <a:solidFill>
                  <a:srgbClr val="ff0066"/>
                </a:solidFill>
                <a:latin typeface="Arial"/>
              </a:rPr>
              <a:t>..und die Mensch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1" lang="de-DE" sz="3600" spc="-1" strike="noStrike">
                <a:solidFill>
                  <a:srgbClr val="ff0066"/>
                </a:solidFill>
                <a:latin typeface="Arial"/>
              </a:rPr>
              <a:t>Deine Mitarbeiter, De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1" lang="de-DE" sz="3600" spc="-1" strike="noStrike">
                <a:solidFill>
                  <a:srgbClr val="ff0066"/>
                </a:solidFill>
                <a:latin typeface="Arial"/>
              </a:rPr>
              <a:t>Kunden, Deinen Nachwuc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582560" y="1484280"/>
            <a:ext cx="5113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Danke für Ihre Aufmerksamkeit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258920" y="1546200"/>
            <a:ext cx="612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600200" y="514440"/>
            <a:ext cx="511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www.hanse-parlament.e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1582560" y="2060640"/>
            <a:ext cx="5780160" cy="433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598760" y="260280"/>
            <a:ext cx="72230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Spiritualität sichert Erfol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836640" y="1295280"/>
            <a:ext cx="798516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legenheit abhängig vo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eleb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piritualität</a:t>
            </a: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 Unternehmen kann Identität + Qualität behaupten, ohne mit seiner moralischen Substanz eins zu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 als Freude und Sinn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sive Arbeit, weniger Krankheiten, längere Lebensarbeit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Stellen + Tätigkeiten beschreiben, sondern Produkte und 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cc00"/>
                </a:solidFill>
                <a:latin typeface="Arial"/>
              </a:rPr>
              <a:t>= </a:t>
            </a:r>
            <a:r>
              <a:rPr b="1" lang="de-DE" sz="2400" spc="-1" strike="noStrike">
                <a:solidFill>
                  <a:srgbClr val="99cc00"/>
                </a:solidFill>
                <a:latin typeface="Arial"/>
              </a:rPr>
              <a:t>betriebswirtsch. Erfolg durch geistige Entwicklung + gelebte Moral</a:t>
            </a:r>
            <a:r>
              <a:rPr b="0" lang="de-DE" sz="2400" spc="-1" strike="noStrike">
                <a:solidFill>
                  <a:srgbClr val="99cc00"/>
                </a:solidFill>
                <a:latin typeface="Arial"/>
              </a:rPr>
              <a:t> (CI, Philosophie usw. allein hilft n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335240" y="260280"/>
            <a:ext cx="8431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68360" y="15447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Foli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598760" y="260280"/>
            <a:ext cx="7005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4 Ebenen führen zum Erfol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8360" y="1341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 Materielles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lanzen, Kostenrechnung u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Bewegung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brückung von Entfern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 Energie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zialenergie, Motivation, Freu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. Geist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torientierung, übergreifende 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26920" y="3284640"/>
            <a:ext cx="43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Die Unternehmen sind erfolgreich, die auf der 3. und 4. Ebene wirtschaften und führen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bronze-stufen-zum-erfolg-vorschau"/>
          <p:cNvPicPr/>
          <p:nvPr/>
        </p:nvPicPr>
        <p:blipFill>
          <a:blip r:embed="rId2"/>
          <a:stretch/>
        </p:blipFill>
        <p:spPr>
          <a:xfrm>
            <a:off x="6084720" y="3141720"/>
            <a:ext cx="2519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335240" y="260280"/>
            <a:ext cx="78087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Tahoma"/>
              </a:rPr>
              <a:t>Unternehmen als Glaubensgemeinsch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447920"/>
          <a:ext cx="8483760" cy="4991040"/>
        </p:xfrm>
        <a:graphic>
          <a:graphicData uri="http://schemas.openxmlformats.org/drawingml/2006/table">
            <a:tbl>
              <a:tblPr/>
              <a:tblGrid>
                <a:gridCol w="8483760"/>
              </a:tblGrid>
              <a:tr h="49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Unternehmen als Wertegemeinschaft entwickeln + führen: </a:t>
                      </a:r>
                      <a:r>
                        <a:rPr b="0" lang="de-D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emeinsames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len durch gemeinsame Ziele schaffen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ößte Sehnsucht nach Spiritualität - Das neue Mittelal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ühle zulassen: Leidenschaftliches Arbeiten -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zial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n der Binnen- zur Umfeldorientierung: Köpfe aller Mitarbeiter nutz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bby zum Beruf machen: Jeder tut das, was er am besten ka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chaftliche, aber konsequente Führung :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LEBEN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Beispiele: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as Unternehmen Klinsmann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In der LOSCHAG wird für Fehler bezah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598760" y="260280"/>
            <a:ext cx="75452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ahoma"/>
              </a:rPr>
              <a:t>Partizipation ist kein Lux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409760"/>
          <a:ext cx="8483760" cy="4937040"/>
        </p:xfrm>
        <a:graphic>
          <a:graphicData uri="http://schemas.openxmlformats.org/drawingml/2006/table">
            <a:tbl>
              <a:tblPr/>
              <a:tblGrid>
                <a:gridCol w="8483760"/>
              </a:tblGrid>
              <a:tr h="49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eiligung bittere Notwendigkeit für Erfolg (Beteiligungsunternehm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eitgeben als Sinngeber + Mitarbeiter als Mitunterneh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ierung materielle + immaterielle Mitarbeiterbeteilig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 Kapitalquelle + Lohn aus zwei Que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% wollen Beteiligung; Blockade im mittleren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führung mit sanftem Druck von oben + Mündigkeit w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ld kann Apathie und Ungeduld eine Tugend sein (s. Ochsentour 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und Juge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Beispiel: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hermann geführt aus Thailand: 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 sind schnell, innovativ, haben  die Besten, bezahlen sie sehr gut und liefern nur herausragende Qualität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ead4"/>
          <p:cNvPicPr/>
          <p:nvPr/>
        </p:nvPicPr>
        <p:blipFill>
          <a:blip r:embed="rId1"/>
          <a:srcRect l="0" t="0" r="85401" b="0"/>
          <a:stretch/>
        </p:blipFill>
        <p:spPr>
          <a:xfrm>
            <a:off x="0" y="0"/>
            <a:ext cx="1335240" cy="1857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4920" y="-270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-25000">
                <a:solidFill>
                  <a:srgbClr val="333399"/>
                </a:solidFill>
                <a:latin typeface="Tahoma"/>
              </a:rPr>
              <a:t>Hanseatic Parli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104840" y="260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333399"/>
                </a:solidFill>
                <a:latin typeface="Tahoma"/>
              </a:rPr>
              <a:t>Stärken fördern – Verschiedenartigkeit li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1278000"/>
            <a:ext cx="8675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cht das tun, was alle tun, sondern was wir am Besten können: Gleichmacherei nivelliert nach 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chiede und Stärken als Innovationsmotor;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hat mindestens eine Stä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 Schwächen werden Stär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ärken anderer nutzen (Rat der Erfahren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llekt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un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ntuition: Einheit Kopf, Herz und H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Überlegenheit der praktischen Intelligenz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Geniale ist immer einf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ke“ benötigen Bescheidenheit + Tolera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übel Abwertung Anderer und zu geri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lbstwertgefühl: 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Ausgleich Selbstwertgefüh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17:48:09Z</dcterms:created>
  <dc:creator>HanseMobil2</dc:creator>
  <dc:description/>
  <dc:language>en-US</dc:language>
  <cp:lastModifiedBy>HP</cp:lastModifiedBy>
  <dcterms:modified xsi:type="dcterms:W3CDTF">2011-08-28T16:22:25Z</dcterms:modified>
  <cp:revision>67</cp:revision>
  <dc:subject/>
  <dc:title>Folie 1</dc:title>
</cp:coreProperties>
</file>